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52000" y="0"/>
            <a:ext cx="842760" cy="1041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320" y="130320"/>
            <a:ext cx="0" cy="660060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0320" y="76320"/>
            <a:ext cx="8048520" cy="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651440" y="6188040"/>
            <a:ext cx="199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4545-A434-4839-89EC-9BFE31325DF0}" type="slidenum"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283080" y="6510240"/>
            <a:ext cx="857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CB2A106</a:t>
            </a:r>
            <a:endParaRPr b="0" lang="en-US" sz="1800" spc="-1" strike="noStrike">
              <a:solidFill>
                <a:srgbClr val="eaec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00"/>
                </a:solidFill>
                <a:latin typeface="Calisto MT"/>
              </a:rPr>
              <a:t>Review Personnel Readiness Data from the Unit Status Report (USR)</a:t>
            </a:r>
            <a:endParaRPr b="1" lang="en-US" sz="7200" spc="-1" strike="noStrike">
              <a:solidFill>
                <a:srgbClr val="333300"/>
              </a:solidFill>
              <a:latin typeface="Calisto MT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Review personnel readiness data from the Unit Status Report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completed DA Form 2715-R (Unit Status Report), AR 220-1, and AR 600-8-6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Verified the DA Form 2715-R, Section A, Block 4 is filled out completely and accurate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 Verified that DA Form 2715-R, Section B, Block 11 is filled out completely and accurately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Calisto MT"/>
              </a:rPr>
              <a:t>Terminal Learning Objective</a:t>
            </a:r>
            <a:endParaRPr b="1" lang="en-US" sz="4400" spc="-1" strike="noStrike">
              <a:solidFill>
                <a:srgbClr val="3333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Verified that DA Form 2715-R, Section C, is filled out completely and accurately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4.  Verified that DA Form 2715-R, Section D (USR pages 4-22), as applicable, is filled out completely and accurately.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5.  Routed the USR to the commander for completion.0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281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6T16:59:06Z</dcterms:created>
  <dc:creator>ADG</dc:creator>
  <dc:description/>
  <dc:language>en-US</dc:language>
  <cp:lastModifiedBy>Administrator</cp:lastModifiedBy>
  <cp:lastPrinted>1998-12-02T17:49:44Z</cp:lastPrinted>
  <dcterms:modified xsi:type="dcterms:W3CDTF">2005-07-08T18:45:21Z</dcterms:modified>
  <cp:revision>3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6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